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3BE-4505-4516-92BD-177D3381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AFD-06B6-40BF-8CA9-396EC07E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4DC9C-6586-47D1-8D36-984F6B99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3996-6579-4CA6-AB70-5B8D3C1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0DE1-1FEE-402A-BF51-E9D5F80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D5DE5-C0C9-46ED-99F7-3759B37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2FCAF-A351-4D40-9D50-DCBCDCB7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FF5C-9760-4D8E-94D3-88963DD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A2CFF-BF7B-410A-A5CA-7F586C3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FCBD2-6398-4A60-ADDD-B7C84A01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0E227-2B72-490E-9D6C-023EC863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7C35B-9B54-403D-B2CC-713F8DF1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FD1-57F8-423C-8913-D38793D4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A9250-C20F-4F22-9BDE-BFE7C708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0D622-C75C-40E8-8F4D-2952A0B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EECE-3548-4E25-8424-0EA858E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5733D-3699-4EED-9987-D61D5C0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7C822-4E63-4680-B1E4-8D42446A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9FA02-9D63-4137-87BF-12BD5CE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BF5E4-22A8-44B7-845F-57F8541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00609-DEF5-402F-8DA9-8FF8FE8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50631-100F-4CC9-A562-6DD93E3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1B03B-B0B6-4C78-B3D1-C3F9AD5D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4CC-38D6-41DB-BFBF-28476A63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69DF2-A43A-4FCD-BBBB-B0853246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362A8-402A-4EDD-8E68-C4D6EC70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D2251-47CB-4997-8171-5B88FB1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7B510-8511-42B8-A6A7-0C7EDD6E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CED5-C701-4494-B18E-A354B62D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F3DD9-0FA8-4B4C-8D61-D005218B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D3951-44F0-4C01-885B-85CB0ACD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09F2C-614F-4F2F-B44B-FAC0DD5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170E-B65B-4746-BEA0-F65F323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3CA6F-1EC4-4781-B645-9D731B4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FBF2-A19B-4A37-BF5D-1E7C949F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B6AA8-64D7-4157-BBEC-889A82D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6273F-869F-42E8-A543-9381CF3A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7D2D-778B-419B-A588-780B7E8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05CF-41D6-444F-8816-5733CFCB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140E-969F-4523-BB86-4ED0FD9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627FC-05E0-4120-93EB-E227695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AA1F-6259-42BA-8386-BB1E441C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B516-23E3-4A92-A67B-E3E74B3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88E34-8788-47D7-A6AE-A5C873C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46D60-509F-46B8-A741-FE2A3724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0EB-D89C-4DA0-863B-6AC8B15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B988C-1870-45D4-B0E7-B4B4214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BFF3-4F97-4A94-B430-ECE0205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B5299-D95D-4D1B-869F-500DBA36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23D99-533A-4EF5-A8B8-7CCA2E8E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1EA0-292D-4335-A4F6-F4C30277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DC82-045D-460F-8CD1-B8876CFA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91C11-771A-4F41-973B-AAFC9C4D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43196-A5C0-488F-AA33-5BAD2C3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2781F-9528-47A9-86DA-7CB9DDA9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9AAC8-8ECE-4635-AE4A-1E490E6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1100-4156-4AEF-81ED-A72DDC7C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B0189-2765-4483-BF24-BB00C5A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3054F-49FF-418E-AF79-2A532CD9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B9E63-6214-4FC6-9EFF-946E937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808D5-E5C4-4A20-8593-C09302A8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4A738-09DE-45DA-97CE-8B1637E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A73F0-514F-43A5-B765-28F9BC83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F3732-F44E-497D-9EB7-1977FF7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CCB97-89D9-445B-8257-1B45E9B7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B758B-3FAE-4C34-80A2-B325036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6479C-ED61-4E62-A8F7-1CB8F7A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9F1-1ABF-42C8-B699-D079B07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DA476-D9D4-42D2-AAE3-82209E4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C8030-F4F2-489C-96DA-09F77F2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D7B43-AEFA-41A9-9E55-5A8B3DC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6B331-6BF7-43C5-A4A0-064314E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C5BA7-CE5C-4261-B8CC-0001D3D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641C1-F451-4CCB-8CB8-B87617C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03DEB-81A4-4AEC-BA31-92738A4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8C3CC-0126-41FC-B3B6-8B29D0F8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91E7C-B5B1-4DBA-BA22-3A046472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9FC30-7301-4F56-9074-E2DBE113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ABD-A8F8-4AD2-8447-E30F8620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DD7CB-548B-4ECF-A97A-B0B21B6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A9B0B-36B6-4F17-9685-4FB25680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1AFF5-AA14-42D6-BDFA-9C6E0906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8BDC7-A71A-4B90-8C65-C0A29C8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02881-934A-4589-BB76-8A637EFF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C3B2B-58EA-4E2F-BE22-5CD4B77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F8C7F-43FC-470E-84A4-E14BBBF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A7568-B9DD-4B0B-9ED6-B6F531F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C94EE-CA0D-4548-B297-57CFF32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2788F-C3F7-44A7-8C63-B704708F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CB8-231E-47D1-AACD-3ED639F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E7F9F-69B3-4B99-951E-CAF22BC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04227-822E-4CD6-A34D-0F2E885D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84BF0-371B-4944-B760-1200B33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FA4AA-F946-4F05-B096-74125B8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35889-B3BB-4823-B5B5-BF01329A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29B47-8C77-418D-95D1-6F536CD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F05F4-695F-44E0-9D7F-8D6266E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20FF7-252A-4166-A960-D595A1BC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05A5B-106C-4536-926B-5A0857B7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1416A-29FC-4A03-A0DD-4170590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FE71-C714-4C8F-BD01-7779904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24B53-E01C-4B3C-AB99-BA82BE2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9CB5D-030E-41E4-A244-049763FD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C9C13-87CF-4FBB-8086-797E99B2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17462-4F09-4084-90AD-EBE93371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12F2A-B5CF-4120-B017-52ED727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908A2-D032-4B7F-8C54-5570E4A9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5392B-5F4C-4A18-8808-F4E813D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7028C-D7EB-4DCE-A06D-A5A881B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2F0EC-54F6-49BA-B081-D3A6528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445C4-8CB4-4782-AD36-B39F4BA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3C1-6A0A-4C84-ACDD-FB04835E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AC52-E4B0-41DC-9974-FC90145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70988-2B94-4634-8271-5E915B7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08D28-8CC9-4828-A08C-A4D2C72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0FDAA-B8C4-41BE-A331-69904BD2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A7407-D738-4043-AF76-A1DC5567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DF0C6-4001-4436-BCE5-654D8F36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1A40D-EF9D-447D-8EE7-27674E08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5AD7A-015A-4D09-BAC4-8D27C4C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824D0-D6BC-4362-BDAB-C962419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CAF17-C772-4831-88DE-0CA384E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8F180-7374-4AEB-8BC1-0514F53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B664-0466-4CD6-9876-6263DFC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C86EA-7C36-4D72-994E-0D6F632F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B30F4-A776-47B0-A220-DC89599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08B0F-8658-4896-B4EE-7242E4C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74FFA-581B-4BFE-98B5-3AC6614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E2AE7-80C1-4D4B-9723-CEDBADF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F9B33-14C3-4538-B0A1-A51E369F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E3292-BB34-4A18-873A-B2167EAF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54071-6507-4377-849C-2A1CF8E1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6CE9B-8C7C-476C-9274-9AC75AD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C9B88-34FF-4730-924D-ED9A2341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BF35-04C7-4388-AA11-43128F6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B6A1F-F6B9-44A5-9247-ADC8923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D6582-CF90-4CB6-8A18-4F309A5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2D258-5459-40F3-87F6-AD44D9A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39C2B-3A2C-4DBE-ADB4-7D63CB3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E8D71-6E40-420C-89FC-F229AD0B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F3A91-CC5B-4F7A-A48D-6362B253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88D53-1972-4FFD-8723-6A1658FD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DE18E-EB7D-403D-A2CD-0295B3E5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EDB993-55E2-4D85-A797-7E7FA0C7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66728-C8EE-4119-8321-4A21B9CD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1E4-700E-4B4A-BA0D-0152106D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EC2B7-65EC-45AA-A98E-EEC01B0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F469B-FEA5-448C-AF0F-9F2AB2D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68083-FA12-49C1-9ABB-3F6A956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65C1D-838D-4909-9DC9-4D2692C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2AA2C-D68E-4BB5-8FB8-1CA0C20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51A00-6075-4111-9D8D-3085C3E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D175A-5833-415B-8B89-1FF862C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71B64-F6A2-4304-B06B-FFF9531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27CB7-EB34-4F74-A68E-2AE85F97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FB6D3-DAAA-4CBC-8A39-AF64FF19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936-E165-47E4-9B04-5CC32287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9AF3A-8CC9-4006-8596-E031A4C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DE6D9-CB5F-44D3-AA55-5312E9D4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D47D4-421E-4BB3-9563-BA8BE06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1953E-C117-4D25-9FB4-2B24D16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731EF-9D07-4BCF-89F4-B2D31EA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5441B-CAC7-475C-944B-0FF48E2F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47D98-2E68-416D-BC42-383BFC5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73FFC-D3FE-4E5A-A330-A4B99DE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E46CD-9C9D-4484-A362-58C2A37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7578F-0DB1-4F40-B066-FDAD6C6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2B5A-454F-471A-A49C-29751878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351E8-98BE-4A02-8BAA-568C44E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BF501-4175-4646-8AF1-EC6A3F0C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62FF9-167B-40F8-9D13-67035837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14F0-6F74-450C-8D9C-71CDA6FE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DADF-1E65-4B73-BCE2-3EADF51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F28F-AB89-471D-A704-080191A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A2BA-5D79-4836-93EA-67A587D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4C-6E79-4BBA-B48D-23D41B4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B2F1-359D-4558-AAC5-7A8DF47E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2881-3210-4E78-A089-11CD328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8193-A3A3-42DF-9974-AD857AD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53BB-CF85-4B9A-89A9-2E49D75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F384-F5D8-42E1-88AF-603FA460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D293-2D32-4D73-8E13-DE2DFBDE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4FDB-650E-41F7-9D6F-1355DF28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4904-47D5-425C-9C2E-064CBB27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70E9-EA1C-43F4-98C0-50BE312E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C641-52B2-4D45-9BD2-E1DF896B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EC8-931F-4642-942F-AF69272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4D97-14DC-4875-BB2A-1353C4D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2BFC-3537-4B91-A99B-66211818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4BC2-15A8-4D2D-9E91-D1E93523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4C25-BF70-427A-B20C-E355251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269F-89FF-47F5-8ACF-4F944BE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2012-FB51-4FC9-A01D-D27936C2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EADE-0D72-4321-9779-22C0811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B694-7A42-4CB4-93E5-4B36AB54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6F1E-5C69-4069-89EA-6E0A7952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819A-A95C-4056-814A-3B56F90A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284-8955-4531-B483-0ED2D885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5BB1-E8F1-4D59-AB04-4F56DDA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C5DD-AEC5-45C7-AC8F-A7268992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D58E-EB8E-4581-AE44-A7B4104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28B7-6443-44C4-A0B1-CF502A07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8036B-3346-4B35-B8B0-3994A915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B49E-474C-4C2E-89D5-170A366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E821-031E-40E7-AB71-5CA5B39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6F17-83BA-4024-A7DF-47DA713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39B5-16E3-490E-B59E-FF7B13E8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A815-E151-4AF8-8513-9A942DB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52D-E3FB-47CC-BA0D-6EBEF0E3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E011-B625-4D00-A405-87B2592A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E83F-E7F0-40B1-B4F9-9AE9B384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1595-BC98-443F-BE1C-83B813A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3866-3802-44A7-B73B-121A489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6982-C988-47AB-9D11-A6F4C23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E62F-1E47-4B38-9307-358DF364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7C208-B97B-4387-8FD2-4910F474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ECBD-AC71-495E-96A7-6B9D398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0A3E-E84A-46FB-9AA6-58FDD43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48C4-5AC3-4933-BA28-9DD370D2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95E-A6DD-441A-A1F8-73AE180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60FF-ADA5-4F88-9216-8C8E076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CE89-C9DA-4304-8DDE-08840736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2065-582E-4305-B7D0-37DAAE61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FA520-184E-463A-98EA-B3AF827F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B0178-0D37-4198-800F-44CCC928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8745-037E-4986-AC1A-5602BE9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949D1-BA55-450B-B1CA-FE20716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90F0-C20B-43AE-9F33-310704D5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AB31-3276-48F1-8EFE-FEF30AC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8F4E-ED1C-4F66-9CC4-A1DB46F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140-329E-4AED-81E7-A3BD252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3A21-439C-4135-8856-9D77E73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D764E-1CEF-430F-8A72-3F5B76F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4888-678E-45B0-9A1D-ED2E3C7F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E5EC-F7F6-40B3-AE85-BAFF83B7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BB9F-D7D6-41DA-BFD2-23C3D9E7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463A-8ED9-41E4-82DF-92E028D3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CE15-7A48-447E-B398-FED8B4B7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EDA6-4D5B-450C-A605-CBBC622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5E84-8550-4C84-B496-05EE7CB6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E84A5-771C-46C7-9470-9D1587C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8B8-83DA-4548-B504-33C07EF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1574-FF34-4752-A003-5EDC4DB5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CB09-6FA7-4C0E-ADD2-6DD0D7D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11D9-A5AC-4942-88C6-8DB2477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F0F31-A797-449F-A7E9-8676340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B1F8-614E-43EF-9F02-C802BA73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F650-1288-46C6-9CFE-443548CE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8B86-5CBD-441A-9543-AE31314A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89400-F8B4-4E5E-BF21-1CAADE7D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AF7BF-BF26-44C2-963A-84B21E75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CE101-846F-4ECF-9F29-7F79088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084-2A66-498F-80A0-9C7F2AEF07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0355-DBFF-47F5-B82B-3B8F57682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C0E4-C107-4CA1-9EA8-D4EB05952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08E-3926-4B4E-A0A5-5EC792110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A9E-726A-461F-B0FD-8FD60F0A7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E7E6-34A0-473F-A250-75244D631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7BF-4671-4AC7-87A4-43FD19787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802-DA22-44A8-BC50-6535C2720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4C0-198F-4363-A4E1-FCF4C907F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107D-7199-40BB-A871-763DC9207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C3C8-A927-42BB-A374-C1CE3DF7E3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B28-0CA0-45E3-860B-992BC5362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459-27F5-4E26-8771-FDE248BDF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13B5-E9D2-47DE-B0E0-AA7CAA046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B1A0-17C4-432B-9DD4-9C6590523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5E8A-3D75-4126-84FF-2386326AC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CD7-64D8-42C2-915B-A10320FB2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CAC-166D-40EE-928B-9C948BACF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3D9-B386-44C2-B4BD-27C85D6C6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13F-6C5C-4A20-9ED5-5A02EFE1C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976-6964-4745-970A-E5C1A99D0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8A8-962E-436F-AA13-D9E460A0E6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5D09-A563-44D2-A55E-A90022417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738-9C73-4125-AB0C-B55E70ABE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A7CC-CDFE-4BBD-A343-2DBE0E331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19BD-26F6-411A-91D7-005062A5B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802E-2082-4264-B9D2-EBBC49D8C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0BC-2942-405D-BD17-1193B8F45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E9E-0645-4E09-91D0-EEB8D1C57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9DE0-CF5C-47BD-B9B8-3D63AC6D6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2BC-8298-4D92-925B-4F4F5DD4C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98A-389C-47B0-95E3-7303A2669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83C-2E90-496C-A1F4-5AF7A9839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A34-A8E5-48CB-8AEF-58F6822B3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1BC-0555-4BE7-9EDA-627B61CB9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CBF-63CE-4FCB-A9D4-35B0078B2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B5F-293B-4C9C-B4A1-2E9E191EE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22D-1020-4D83-BC4D-C4A2F8D99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C9E-1E32-46DD-A768-489B72413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832F-A76E-4EE2-A589-532D0E2C7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76360" y="3166920"/>
            <a:ext cx="43912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0880" y="793800"/>
            <a:ext cx="8382240" cy="5514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93672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06728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020000" y="3875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28800" y="429264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95640" y="435132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96360" y="430704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47920" y="471024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924360" y="4724280"/>
            <a:ext cx="93672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934320" y="4681440"/>
            <a:ext cx="93636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504800" y="558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708360" y="558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983200" y="558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8186760" y="558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476360" y="59641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679920" y="59641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954760" y="59641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8158320" y="59641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2862360" y="1254240"/>
            <a:ext cx="41716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557280" y="595440"/>
            <a:ext cx="8029440" cy="5667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627280" y="53290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340000" y="5776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4586400" y="49705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572000" y="5791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020000" y="53290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6703920" y="5805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9417" descr=""/>
          <p:cNvPicPr/>
          <p:nvPr/>
        </p:nvPicPr>
        <p:blipFill>
          <a:blip r:embed="rId8"/>
          <a:stretch/>
        </p:blipFill>
        <p:spPr>
          <a:xfrm>
            <a:off x="2209680" y="250812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8" descr=""/>
          <p:cNvPicPr/>
          <p:nvPr/>
        </p:nvPicPr>
        <p:blipFill>
          <a:blip r:embed="rId9"/>
          <a:stretch/>
        </p:blipFill>
        <p:spPr>
          <a:xfrm>
            <a:off x="2209680" y="3948120"/>
            <a:ext cx="1629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6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